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B2B6-E236-4B6A-967D-EB9C8FF0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5706-F182-4CC7-8DC3-1D2103A7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849-1F20-4827-B0A3-95171C35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9D0-4513-46DC-B170-AF954ED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FF4-A78E-473A-946E-876CC310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0AF-861F-4C0B-A430-FFB4C13F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DBA-013A-42A2-A851-3BFE25E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5C9-81B8-4260-98B2-8789F232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E25-0A45-4CCE-9AE2-4282F5D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7D2-63F9-43AC-8BB9-8C25EA0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824-C0A2-43D0-AC83-F1433E3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B1A-6901-4B33-B16E-0BCB176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BD0-8798-4907-B34F-7E57FB1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58C-6B9D-444A-8C3D-7B511DFC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BF6E-525A-445A-A1E0-D344D8B81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-304920" y="12952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todos?  Yo estoy muy feliz porque el día esta muy bonito ¿ Que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724280"/>
            <a:ext cx="167652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4864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y penosa también. Mi familia es muy importante para m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10228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1022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7117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102280"/>
            <a:ext cx="451080" cy="944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ver una película de acción por que yo estoy muy cansad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al película quieres ir a 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muy bien el día esta muy bonito 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muy enérgica me gusta los deportes y si estoy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943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: Co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28:51Z</dcterms:created>
  <dc:creator>FriscoISD</dc:creator>
  <dc:description/>
  <dc:language>en-US</dc:language>
  <cp:lastModifiedBy>NYCDOE</cp:lastModifiedBy>
  <dcterms:modified xsi:type="dcterms:W3CDTF">2012-12-06T14:57:16Z</dcterms:modified>
  <cp:revision>108</cp:revision>
  <dc:subject/>
  <dc:title>Profile</dc:title>
</cp:coreProperties>
</file>